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BC7A-7302-4E0E-98BD-E462FF17C5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6BDC-A0CB-4CA1-AF9F-D8B66425E5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D7A-1014-4980-B2E6-B2B38F26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525-50C7-4296-AB60-842AE32B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18CC-DF0C-493A-846C-C073B64D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287-30E4-4478-87F6-091B7292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276-D2C9-431B-AC65-8E0DED2B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D42-0544-4C3D-AE84-62E2266C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051-2E1B-41AC-989C-57B7130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F1F-6508-4975-9FD5-7311227F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2EF-2BBD-42D9-B7AE-D8970B43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A76-580E-4861-A65B-AA496AF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8F1-64FF-4F82-A84E-E5B6FDFB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7F5-8293-4269-AD31-8D5AC8A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12E4-829B-42BF-B49B-6832F0053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279576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logo IOP + EU + text - 1"/>
          <p:cNvPicPr/>
          <p:nvPr/>
        </p:nvPicPr>
        <p:blipFill>
          <a:blip r:embed="rId1"/>
          <a:stretch/>
        </p:blipFill>
        <p:spPr>
          <a:xfrm>
            <a:off x="152280" y="228600"/>
            <a:ext cx="5059440" cy="56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2"/>
          <p:cNvSpPr/>
          <p:nvPr/>
        </p:nvSpPr>
        <p:spPr>
          <a:xfrm>
            <a:off x="438624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1" descr="logoMPSV-m-sm"/>
          <p:cNvPicPr/>
          <p:nvPr/>
        </p:nvPicPr>
        <p:blipFill>
          <a:blip r:embed="rId2"/>
          <a:stretch/>
        </p:blipFill>
        <p:spPr>
          <a:xfrm>
            <a:off x="8381880" y="228600"/>
            <a:ext cx="528840" cy="568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6"/>
          <p:cNvSpPr/>
          <p:nvPr/>
        </p:nvSpPr>
        <p:spPr>
          <a:xfrm>
            <a:off x="343080" y="2865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0:49:32Z</dcterms:created>
  <dc:creator>prihonskai</dc:creator>
  <dc:description/>
  <dc:language>en-US</dc:language>
  <cp:lastModifiedBy>Kostelníková Ludmila</cp:lastModifiedBy>
  <dcterms:modified xsi:type="dcterms:W3CDTF">2013-08-01T09:05:51Z</dcterms:modified>
  <cp:revision>2</cp:revision>
  <dc:subject/>
  <dc:title>Prezentace aplikace PowerPoint</dc:title>
</cp:coreProperties>
</file>